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 rot="16200000"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 rot="16200000"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 rot="16200000">
            <a:off x="68544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460440"/>
                <a:tab algn="l" pos="468360"/>
                <a:tab algn="l" pos="476280"/>
                <a:tab algn="l" pos="484200"/>
                <a:tab algn="l" pos="492120"/>
                <a:tab algn="l" pos="500040"/>
                <a:tab algn="l" pos="507960"/>
                <a:tab algn="l" pos="515880"/>
                <a:tab algn="l" pos="523800"/>
                <a:tab algn="l" pos="531720"/>
                <a:tab algn="l" pos="539640"/>
                <a:tab algn="l" pos="547560"/>
                <a:tab algn="l" pos="555480"/>
                <a:tab algn="l" pos="563400"/>
                <a:tab algn="l" pos="571680"/>
                <a:tab algn="l" pos="579600"/>
                <a:tab algn="l" pos="587520"/>
                <a:tab algn="l" pos="595440"/>
                <a:tab algn="l" pos="603360"/>
                <a:tab algn="l" pos="611280"/>
              </a:tabLst>
            </a:pPr>
            <a:r>
              <a:rPr b="0" lang="en-US" sz="4400" spc="-1" strike="noStrike">
                <a:solidFill>
                  <a:srgbClr val="2c3c43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c3c43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 rot="16200000">
            <a:off x="68544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 rot="16200000"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 rot="16200000"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D18C798E-0C76-4E21-9F24-9A38F54E89F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fld id="{0137ADBF-0E36-415F-A574-98364E5B8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AFAFC221-AB73-4613-974F-BA120CD803CB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页眉占位符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40F-2380-416B-BBBB-C5BDF92B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3C3-EA6A-4351-B3E0-ABE4430D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9DA-3472-452B-B249-567B0529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EAA-E07A-4EAD-9C08-4EC74755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64A-0A42-49CF-8FCC-30DF5507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E1A-4946-49CF-BBF4-303CBAF1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788-078A-47D7-A50B-2D560B6D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383-6E8F-4B6F-91D4-1E6A9E4C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117-CDF2-4EDD-88EF-13E46F7F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3BF-E1DC-46E7-A663-AF9A364F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FDF-96C8-4A89-850E-D57B50B6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CD8-E826-411B-81C9-2EBE4EFB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 rot="16200000">
            <a:off x="677520" y="60948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buNone/>
              <a:tabLst>
                <a:tab algn="l" pos="0"/>
                <a:tab algn="l" pos="460440"/>
                <a:tab algn="l" pos="468360"/>
                <a:tab algn="l" pos="476280"/>
                <a:tab algn="l" pos="484200"/>
                <a:tab algn="l" pos="492120"/>
                <a:tab algn="l" pos="500040"/>
                <a:tab algn="l" pos="507960"/>
                <a:tab algn="l" pos="515880"/>
                <a:tab algn="l" pos="523800"/>
                <a:tab algn="l" pos="531720"/>
                <a:tab algn="l" pos="539640"/>
                <a:tab algn="l" pos="547560"/>
                <a:tab algn="l" pos="555480"/>
                <a:tab algn="l" pos="563400"/>
                <a:tab algn="l" pos="571680"/>
                <a:tab algn="l" pos="579600"/>
                <a:tab algn="l" pos="587520"/>
                <a:tab algn="l" pos="595440"/>
                <a:tab algn="l" pos="603360"/>
                <a:tab algn="l" pos="611280"/>
              </a:tabLst>
            </a:pPr>
            <a:r>
              <a:rPr b="0" lang="en-US" sz="4400" spc="-1" strike="noStrike">
                <a:solidFill>
                  <a:srgbClr val="2c3c4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c3c4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 rot="16200000">
            <a:off x="677520" y="216072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57680" indent="-157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 rot="16200000">
            <a:off x="720540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907BC993-1A8B-4662-9F0D-685133E968FD}" type="datetime"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 rot="16200000">
            <a:off x="67752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5896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126EE7D5-5031-4FAA-BBE5-22958C3C65E0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500" spc="-1" strike="noStrike">
              <a:solidFill>
                <a:srgbClr val="003399"/>
              </a:solidFill>
              <a:latin typeface="Arial"/>
            </a:endParaRPr>
          </a:p>
          <a:p>
            <a:pPr lvl="1" marL="343080" indent="-343080">
              <a:spcBef>
                <a:spcPts val="125"/>
              </a:spcBef>
              <a:buClr>
                <a:srgbClr val="ffffff"/>
              </a:buClr>
              <a:buSzPct val="70000"/>
              <a:buFont typeface="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SzPct val="25000"/>
              <a:buFont typeface="Garamond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914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371600" indent="-4572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371600" indent="-4572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371600" indent="-4572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5"/>
          <p:cNvSpPr/>
          <p:nvPr/>
        </p:nvSpPr>
        <p:spPr>
          <a:xfrm>
            <a:off x="1979640" y="2496960"/>
            <a:ext cx="77454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开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webgi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简介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mapserve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openlayer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宋体"/>
              </a:rPr>
              <a:t>postgre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411-4914-43B2-B548-7831044C29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"/>
          <p:cNvSpPr/>
          <p:nvPr/>
        </p:nvSpPr>
        <p:spPr>
          <a:xfrm>
            <a:off x="0" y="136440"/>
            <a:ext cx="480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应用实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177840" y="1193760"/>
            <a:ext cx="1083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广西沙化土地监测信息共享系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——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基于开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ebG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的广西沙化土地监测信息共享系统构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3" descr=""/>
          <p:cNvPicPr/>
          <p:nvPr/>
        </p:nvPicPr>
        <p:blipFill>
          <a:blip r:embed="rId1"/>
          <a:stretch/>
        </p:blipFill>
        <p:spPr>
          <a:xfrm>
            <a:off x="941400" y="2211480"/>
            <a:ext cx="8566200" cy="41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D96-359E-490A-ADA8-02B3A3E93B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1"/>
          <p:cNvSpPr/>
          <p:nvPr/>
        </p:nvSpPr>
        <p:spPr>
          <a:xfrm>
            <a:off x="12600" y="155520"/>
            <a:ext cx="480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应用实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341280" y="1584360"/>
            <a:ext cx="9683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辽河口湿地管理信息系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——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基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G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标准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ebG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辽河口湿地管理信息系统的设计与实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4"/>
          <p:cNvSpPr/>
          <p:nvPr/>
        </p:nvSpPr>
        <p:spPr>
          <a:xfrm>
            <a:off x="341280" y="4102200"/>
            <a:ext cx="9683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GeoMOO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mapp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CartoWe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等都是基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Serv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构建的开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eb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应用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5" descr=""/>
          <p:cNvPicPr/>
          <p:nvPr/>
        </p:nvPicPr>
        <p:blipFill>
          <a:blip r:embed="rId1"/>
          <a:stretch/>
        </p:blipFill>
        <p:spPr>
          <a:xfrm>
            <a:off x="314280" y="5265720"/>
            <a:ext cx="2876760" cy="752400"/>
          </a:xfrm>
          <a:prstGeom prst="rect">
            <a:avLst/>
          </a:prstGeom>
          <a:ln w="0">
            <a:noFill/>
          </a:ln>
        </p:spPr>
      </p:pic>
      <p:sp>
        <p:nvSpPr>
          <p:cNvPr id="132" name="矩形 6"/>
          <p:cNvSpPr/>
          <p:nvPr/>
        </p:nvSpPr>
        <p:spPr>
          <a:xfrm>
            <a:off x="314280" y="2938320"/>
            <a:ext cx="994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基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eb-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S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图像数据库系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——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基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EB-G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的多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S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图像数据库系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7" descr=""/>
          <p:cNvPicPr/>
          <p:nvPr/>
        </p:nvPicPr>
        <p:blipFill>
          <a:blip r:embed="rId2"/>
          <a:stretch/>
        </p:blipFill>
        <p:spPr>
          <a:xfrm>
            <a:off x="3336840" y="5265720"/>
            <a:ext cx="2163960" cy="7970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"/>
          <p:cNvPicPr/>
          <p:nvPr/>
        </p:nvPicPr>
        <p:blipFill>
          <a:blip r:embed="rId3"/>
          <a:stretch/>
        </p:blipFill>
        <p:spPr>
          <a:xfrm>
            <a:off x="5981760" y="5265720"/>
            <a:ext cx="5850000" cy="87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B4D-731A-4962-B5AF-8084C90723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"/>
          <p:cNvSpPr/>
          <p:nvPr/>
        </p:nvSpPr>
        <p:spPr>
          <a:xfrm>
            <a:off x="272880" y="1217520"/>
            <a:ext cx="104918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Serve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是利用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语言开发的开源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ebGIS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项目，它是一套基于胖服务器端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瘦客户端模式的实时地图发布系统，客户端发送数据请求时，服务器端实时的处理空间数据，并将生成的数据发送给客户端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Serve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有如下几个关键的特性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支持多种矢量、栅格数据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ostGIS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空间数据库，并借助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ArcSD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支持商业空间数据库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支持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Linux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等操作系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提供两种工作方式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CGI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方式（适用于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CG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Aja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Flex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开发人员）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Scrip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方式（适用于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Jav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C#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开发人员），以原生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CGI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方式效率最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Fil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是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Serve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的核心，它将各种地图要素组织成具有层次关系的对象系统；并定义数据来源，使用的数据格式，用户交互以及对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G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协议的支持，包括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MS, WFS, SLD, WFS Filter Encoding, WCS, SOS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"/>
          <p:cNvSpPr/>
          <p:nvPr/>
        </p:nvSpPr>
        <p:spPr>
          <a:xfrm>
            <a:off x="272880" y="231840"/>
            <a:ext cx="57931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GIS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服务器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Map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A85-4A68-4E87-9B2D-DFEB56484D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>
            <a:off x="1400040" y="817560"/>
            <a:ext cx="6185160" cy="61498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2"/>
          <p:cNvSpPr/>
          <p:nvPr/>
        </p:nvSpPr>
        <p:spPr>
          <a:xfrm>
            <a:off x="0" y="0"/>
            <a:ext cx="6365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MapServer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应用的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643-5587-4B9D-BD71-AFB22DE2AE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"/>
          <p:cNvSpPr/>
          <p:nvPr/>
        </p:nvSpPr>
        <p:spPr>
          <a:xfrm>
            <a:off x="736560" y="2484360"/>
            <a:ext cx="8798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Apache HTTP Serv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（简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Apach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）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Apach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软件基金会的一个开放源码的网页服务器，可以在大多数计算机操作系统中运行，由于其多平台和安全性被广泛使用，是最流行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服务器端软件之一。它快速、可靠并且可通过简单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A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扩展，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erl/Pyth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等解释器编译到服务器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"/>
          <p:cNvSpPr/>
          <p:nvPr/>
        </p:nvSpPr>
        <p:spPr>
          <a:xfrm>
            <a:off x="246240" y="299880"/>
            <a:ext cx="4986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Web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服务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Ap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504-36E6-4E01-8E3B-264A100CBA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"/>
          <p:cNvSpPr/>
          <p:nvPr/>
        </p:nvSpPr>
        <p:spPr>
          <a:xfrm>
            <a:off x="326880" y="395280"/>
            <a:ext cx="45626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客户端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Open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"/>
          <p:cNvSpPr/>
          <p:nvPr/>
        </p:nvSpPr>
        <p:spPr>
          <a:xfrm>
            <a:off x="1057320" y="1882800"/>
            <a:ext cx="7664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penLayers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是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etaCar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公司开发的，用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eb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客户端的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JavaScrip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包，目前的最高版本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2.5 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，通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BSD License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发行。它实现访问地理空间数据的方法都符合行业标准，比如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pen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范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penLayer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采用纯面向对象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JavaScrip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方式开发，同时借用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rototyp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框架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Ric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库的一些组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CB6-E766-4D7A-981B-8AEF2D10A9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"/>
          <p:cNvSpPr/>
          <p:nvPr/>
        </p:nvSpPr>
        <p:spPr>
          <a:xfrm>
            <a:off x="490680" y="1650960"/>
            <a:ext cx="9617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ostgreSQL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是一种对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关系型数据库管理系统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RDB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），也是目前功能最强大、特性最丰富和最复杂的自由软件数据库系统。它起源于伯克利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BS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）的数据库研目前功能最强大、特性最丰富和最复杂的究计划，目前是最重要的开源数据库产品开发项目之一， 有着非常广泛的用户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ost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在对象关系型数据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ostgreSQ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上增加了存储管理空间数据的能力，相当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rac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spati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部分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ost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最大的特点是符合并且实现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pen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的一些规范，是最著名的开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数据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"/>
          <p:cNvSpPr/>
          <p:nvPr/>
        </p:nvSpPr>
        <p:spPr>
          <a:xfrm>
            <a:off x="490680" y="395280"/>
            <a:ext cx="44132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数据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PostgreSQ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508-AFAE-4509-97C2-55C707BD7D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1"/>
          <p:cNvSpPr/>
          <p:nvPr/>
        </p:nvSpPr>
        <p:spPr>
          <a:xfrm>
            <a:off x="600120" y="2117880"/>
            <a:ext cx="91393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Serv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可以看作是两个独立模块的统称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Server CG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模块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Scrip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模块。在服务器端可以使用任一模块，编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eb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程序。不过它们使用相同的配置文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F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F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文件将各种地图要素组织成具有层次关系的对象系统。数据来源，使用的数据格式，用户交互和对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G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协议的支持也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F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中定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"/>
          <p:cNvSpPr/>
          <p:nvPr/>
        </p:nvSpPr>
        <p:spPr>
          <a:xfrm>
            <a:off x="477720" y="299880"/>
            <a:ext cx="4221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MapFile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E61-2555-4F4D-889D-E16AE6B354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771480" y="1424160"/>
            <a:ext cx="9039240" cy="4991040"/>
          </a:xfrm>
          <a:prstGeom prst="rect">
            <a:avLst/>
          </a:prstGeom>
          <a:ln w="0">
            <a:noFill/>
          </a:ln>
        </p:spPr>
      </p:pic>
      <p:sp>
        <p:nvSpPr>
          <p:cNvPr id="148" name="矩形 2"/>
          <p:cNvSpPr/>
          <p:nvPr/>
        </p:nvSpPr>
        <p:spPr>
          <a:xfrm>
            <a:off x="488880" y="52848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F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中包括的对象及其层次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7B7-9D55-4E30-A580-ACA005C445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2"/>
          <p:cNvSpPr/>
          <p:nvPr/>
        </p:nvSpPr>
        <p:spPr>
          <a:xfrm>
            <a:off x="1467000" y="1201680"/>
            <a:ext cx="825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NAME "hangzhou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UNITS ME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EXTENT 745000 156000 758000 165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STATUS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FONTSET d:/mapserver/sym_fonts/fonts.t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SYMBOLSET d:/mapserver/sym_fonts/shade.sy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SHAPEPATH d:/gis_data/hangzho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6"/>
          <p:cNvSpPr/>
          <p:nvPr/>
        </p:nvSpPr>
        <p:spPr>
          <a:xfrm>
            <a:off x="0" y="136440"/>
            <a:ext cx="424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一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Map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设置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"/>
          <p:cNvSpPr/>
          <p:nvPr/>
        </p:nvSpPr>
        <p:spPr>
          <a:xfrm>
            <a:off x="0" y="4221000"/>
            <a:ext cx="5861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一般输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(OUTPUT)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4"/>
          <p:cNvSpPr/>
          <p:nvPr/>
        </p:nvSpPr>
        <p:spPr>
          <a:xfrm>
            <a:off x="1467000" y="5445000"/>
            <a:ext cx="322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IMAGETYPE P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SIZE 600 5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1FE-553E-405B-AC8B-4FC99E716A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0" descr="图 1. GIS 体系结构图"/>
          <p:cNvPicPr/>
          <p:nvPr/>
        </p:nvPicPr>
        <p:blipFill>
          <a:blip r:embed="rId1"/>
          <a:stretch/>
        </p:blipFill>
        <p:spPr>
          <a:xfrm>
            <a:off x="519120" y="792000"/>
            <a:ext cx="8707320" cy="517212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8"/>
          <p:cNvSpPr/>
          <p:nvPr/>
        </p:nvSpPr>
        <p:spPr>
          <a:xfrm>
            <a:off x="0" y="0"/>
            <a:ext cx="45766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WebGIS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体系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D72-DE47-4851-AE6B-BF064B39EB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5"/>
          <p:cNvSpPr/>
          <p:nvPr/>
        </p:nvSpPr>
        <p:spPr>
          <a:xfrm>
            <a:off x="382680" y="531720"/>
            <a:ext cx="3414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WEB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7"/>
          <p:cNvSpPr/>
          <p:nvPr/>
        </p:nvSpPr>
        <p:spPr>
          <a:xfrm>
            <a:off x="600120" y="1774800"/>
            <a:ext cx="10450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WE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IMAGEPATH "f:/mapserver/mapimages/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IMAGEURL "/mapimages/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ERROR http://www.mapserver.ch/mapserver/ms_error.htm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EMPTY http://www.mapserver.ch/mapserver/ms_empty.htm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LOG f:/mapserver/logs/mapserver.l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PROJ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"init=epsg:4326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1F4-EF81-4201-8527-BE95C0E729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6"/>
          <p:cNvSpPr/>
          <p:nvPr/>
        </p:nvSpPr>
        <p:spPr>
          <a:xfrm>
            <a:off x="824040" y="1198440"/>
            <a:ext cx="917568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NAME "Danger Zon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GROUP "Zoning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META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title "Danger Zone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author "Department of Environment Protection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TYPE POLYG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MINSCALE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MAXSCALE 1000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SYMBOLSCALE 1000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STATUS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TRANSPARENCY 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8"/>
          <p:cNvSpPr/>
          <p:nvPr/>
        </p:nvSpPr>
        <p:spPr>
          <a:xfrm>
            <a:off x="423720" y="314280"/>
            <a:ext cx="3838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LAYER Obj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901-6BB0-4A90-8729-E2A8FBAC24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1"/>
          <p:cNvSpPr/>
          <p:nvPr/>
        </p:nvSpPr>
        <p:spPr>
          <a:xfrm>
            <a:off x="0" y="169920"/>
            <a:ext cx="3989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Data Settin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"/>
          <p:cNvSpPr/>
          <p:nvPr/>
        </p:nvSpPr>
        <p:spPr>
          <a:xfrm>
            <a:off x="846000" y="1158840"/>
            <a:ext cx="5383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olas"/>
                <a:ea typeface="新宋体"/>
              </a:rPr>
              <a:t>Shap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DATA  “data/hangzho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"/>
          <p:cNvSpPr/>
          <p:nvPr/>
        </p:nvSpPr>
        <p:spPr>
          <a:xfrm>
            <a:off x="846000" y="2747880"/>
            <a:ext cx="1031400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olas"/>
                <a:ea typeface="新宋体"/>
              </a:rPr>
              <a:t>Connect to Datab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SDE</a:t>
            </a:r>
            <a:r>
              <a:rPr b="0" lang="zh-CN" sz="2400" spc="-1" strike="noStrike">
                <a:solidFill>
                  <a:srgbClr val="000000"/>
                </a:solidFill>
                <a:latin typeface="Consolas"/>
                <a:ea typeface="新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TYPE s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CONNECTION "myhost,esri_sde,gisdb,userid,password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DATA sites.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236-893C-439A-A01F-5726C036E0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1"/>
          <p:cNvSpPr/>
          <p:nvPr/>
        </p:nvSpPr>
        <p:spPr>
          <a:xfrm>
            <a:off x="1338120" y="558720"/>
            <a:ext cx="658512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olas"/>
                <a:ea typeface="新宋体"/>
              </a:rPr>
              <a:t>Connect to Datab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POSTGIS</a:t>
            </a:r>
            <a:r>
              <a:rPr b="1" lang="zh-CN" sz="2400" spc="-1" strike="noStrike">
                <a:solidFill>
                  <a:srgbClr val="000000"/>
                </a:solidFill>
                <a:latin typeface="Consolas"/>
                <a:ea typeface="新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TYPE postg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CONNECTION "user=gis_user dbname=gis host=localhost port=5432 password=‘’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DATA "the_geom from s81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ORACLE</a:t>
            </a:r>
            <a:r>
              <a:rPr b="1" lang="zh-CN" sz="2400" spc="-1" strike="noStrike">
                <a:solidFill>
                  <a:srgbClr val="000000"/>
                </a:solidFill>
                <a:latin typeface="Consolas"/>
                <a:ea typeface="新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TYPE oraclespa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CONNECTION "spa/sig@spa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DATA "GEOLOC from FP10010_LINE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F32-D94E-43AB-A3C8-A71478648B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1"/>
          <p:cNvSpPr/>
          <p:nvPr/>
        </p:nvSpPr>
        <p:spPr>
          <a:xfrm>
            <a:off x="0" y="109440"/>
            <a:ext cx="3757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Openlay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"/>
          <p:cNvSpPr/>
          <p:nvPr/>
        </p:nvSpPr>
        <p:spPr>
          <a:xfrm>
            <a:off x="1501920" y="1311120"/>
            <a:ext cx="713088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!DOCTYPE 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html lang='zh-cn'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hea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meta charset='utf-8'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title&gt;My OpenLayers Map&lt;/tit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script type='text/javascript' src='OpenLayers.js'&gt;&lt;/scrip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script type='text/javascript'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body onload='init();'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div id='map' style='width: 500px; height: 500px;'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699-BC9A-441B-BA95-7B811600CD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"/>
          <p:cNvSpPr/>
          <p:nvPr/>
        </p:nvSpPr>
        <p:spPr>
          <a:xfrm>
            <a:off x="519120" y="955800"/>
            <a:ext cx="88520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var ma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function init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map = new OpenLayers.Map('map', {}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var wms = new OpenLayers.Layer.WMS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'OpenLayers WMS'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'http://vmap0.tiles.osgeo.org/wms/vmap0'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layers: 'basic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map.addLayer(wm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if (!map.getCenter(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map.zoomToMaxExt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9D5-5E28-4347-9703-FC4A76422B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1"/>
          <p:cNvSpPr/>
          <p:nvPr/>
        </p:nvSpPr>
        <p:spPr>
          <a:xfrm>
            <a:off x="450720" y="2087640"/>
            <a:ext cx="109569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var wms = new OpenLayers.Layer.WMS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"NASA Global Mosaic",                                  "http://wms.jpl.nasa.gov/wms.cgi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layers: "modis,global_mosaic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transparent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},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opacity: 0.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singleTil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6"/>
          <p:cNvSpPr/>
          <p:nvPr/>
        </p:nvSpPr>
        <p:spPr>
          <a:xfrm>
            <a:off x="299880" y="341280"/>
            <a:ext cx="64756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OpenLayers.Layer.WMS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2DC-69AB-4121-A2BA-C659B0C504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1"/>
          <p:cNvSpPr/>
          <p:nvPr/>
        </p:nvSpPr>
        <p:spPr>
          <a:xfrm>
            <a:off x="1473120" y="2660760"/>
            <a:ext cx="7472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Mapserver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PostgreSQL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的连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A73-652B-4B22-B78E-81C47C1DF3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"/>
          <p:cNvSpPr/>
          <p:nvPr/>
        </p:nvSpPr>
        <p:spPr>
          <a:xfrm>
            <a:off x="763560" y="2757600"/>
            <a:ext cx="9207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Openlayers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通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wms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服务访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postg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B9E-F552-4460-99B6-AF94B1F585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219240" y="1055520"/>
            <a:ext cx="1140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pgr_dijkstra(text sql, integer source, integer targ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新宋体"/>
              </a:rPr>
              <a:t>boolean directed, boolean has_rco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3" descr=""/>
          <p:cNvPicPr/>
          <p:nvPr/>
        </p:nvPicPr>
        <p:blipFill>
          <a:blip r:embed="rId1"/>
          <a:stretch/>
        </p:blipFill>
        <p:spPr>
          <a:xfrm>
            <a:off x="0" y="2344680"/>
            <a:ext cx="12192120" cy="451332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4"/>
          <p:cNvSpPr/>
          <p:nvPr/>
        </p:nvSpPr>
        <p:spPr>
          <a:xfrm>
            <a:off x="219240" y="258840"/>
            <a:ext cx="579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Cgi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方式调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Pgrou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CE7-5391-4DDB-83A2-40B46E22DA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1609560" y="122400"/>
            <a:ext cx="7274160" cy="623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600-6B84-4A04-A1C3-0CFD9E03C3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45120" cy="24703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2" descr=""/>
          <p:cNvPicPr/>
          <p:nvPr/>
        </p:nvPicPr>
        <p:blipFill>
          <a:blip r:embed="rId2"/>
          <a:stretch/>
        </p:blipFill>
        <p:spPr>
          <a:xfrm>
            <a:off x="0" y="2948040"/>
            <a:ext cx="11382480" cy="16002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3" descr=""/>
          <p:cNvPicPr/>
          <p:nvPr/>
        </p:nvPicPr>
        <p:blipFill>
          <a:blip r:embed="rId3"/>
          <a:stretch/>
        </p:blipFill>
        <p:spPr>
          <a:xfrm>
            <a:off x="0" y="4303800"/>
            <a:ext cx="11914200" cy="238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CB8-D720-4991-91D6-B5D216916B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0d5ba275bd5eca91631f691c0d74e1f5"/>
          <p:cNvPicPr/>
          <p:nvPr/>
        </p:nvPicPr>
        <p:blipFill>
          <a:blip r:embed="rId2"/>
          <a:stretch/>
        </p:blipFill>
        <p:spPr>
          <a:xfrm>
            <a:off x="33480" y="36360"/>
            <a:ext cx="9092880" cy="682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"/>
          <p:cNvSpPr/>
          <p:nvPr/>
        </p:nvSpPr>
        <p:spPr>
          <a:xfrm>
            <a:off x="0" y="109440"/>
            <a:ext cx="5095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开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WebGIS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解决方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996840" y="1650960"/>
            <a:ext cx="8880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地图数据存储，有两种可选方法。一是文件存储，直接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Shapef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文件形式存储；二是利用空间数据库。在开源空间数据库中，比较成型的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ost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ySQL Spati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。其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ost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是开源数据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ostgreSQ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的扩展模块，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ySQL Spati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是开源数据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的扩展模块。相比较而言，在开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领域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Post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能够得到更为广泛的支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" descr=""/>
          <p:cNvPicPr/>
          <p:nvPr/>
        </p:nvPicPr>
        <p:blipFill>
          <a:blip r:embed="rId1"/>
          <a:stretch/>
        </p:blipFill>
        <p:spPr>
          <a:xfrm>
            <a:off x="1522440" y="4140360"/>
            <a:ext cx="6743520" cy="25905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4"/>
          <p:cNvSpPr/>
          <p:nvPr/>
        </p:nvSpPr>
        <p:spPr>
          <a:xfrm>
            <a:off x="122400" y="968400"/>
            <a:ext cx="3197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新宋体"/>
              </a:rPr>
              <a:t>数据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59C-18DA-48EC-9313-05551362DE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1"/>
          <p:cNvSpPr/>
          <p:nvPr/>
        </p:nvSpPr>
        <p:spPr>
          <a:xfrm>
            <a:off x="0" y="109440"/>
            <a:ext cx="5095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开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WebGIS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解决方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"/>
          <p:cNvSpPr/>
          <p:nvPr/>
        </p:nvSpPr>
        <p:spPr>
          <a:xfrm>
            <a:off x="231840" y="1419120"/>
            <a:ext cx="271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新宋体"/>
              </a:rPr>
              <a:t>GI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新宋体"/>
              </a:rPr>
              <a:t>服务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231840" y="2116080"/>
            <a:ext cx="9263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GeoServ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或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Serv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。二者都是开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eb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中的佼佼者，在功能与性能上各有千秋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GeoServe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是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penGIS We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服务器规范的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J2E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实现的社区开源项目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Serv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则是基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实现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4" descr=""/>
          <p:cNvPicPr/>
          <p:nvPr/>
        </p:nvPicPr>
        <p:blipFill>
          <a:blip r:embed="rId1"/>
          <a:stretch/>
        </p:blipFill>
        <p:spPr>
          <a:xfrm>
            <a:off x="1081080" y="4048200"/>
            <a:ext cx="7556400" cy="113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366-B63D-4694-B7C6-449A5F005B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"/>
          <p:cNvSpPr/>
          <p:nvPr/>
        </p:nvSpPr>
        <p:spPr>
          <a:xfrm>
            <a:off x="409680" y="1440000"/>
            <a:ext cx="295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新宋体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新宋体"/>
              </a:rPr>
              <a:t>服务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"/>
          <p:cNvSpPr/>
          <p:nvPr/>
        </p:nvSpPr>
        <p:spPr>
          <a:xfrm>
            <a:off x="409680" y="2611440"/>
            <a:ext cx="139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Tom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3" descr=""/>
          <p:cNvPicPr/>
          <p:nvPr/>
        </p:nvPicPr>
        <p:blipFill>
          <a:blip r:embed="rId1"/>
          <a:stretch/>
        </p:blipFill>
        <p:spPr>
          <a:xfrm>
            <a:off x="2725560" y="284148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4" descr=""/>
          <p:cNvPicPr/>
          <p:nvPr/>
        </p:nvPicPr>
        <p:blipFill>
          <a:blip r:embed="rId2"/>
          <a:stretch/>
        </p:blipFill>
        <p:spPr>
          <a:xfrm>
            <a:off x="2725560" y="5159520"/>
            <a:ext cx="3470400" cy="12841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5"/>
          <p:cNvSpPr/>
          <p:nvPr/>
        </p:nvSpPr>
        <p:spPr>
          <a:xfrm>
            <a:off x="409680" y="5159520"/>
            <a:ext cx="211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6"/>
          <p:cNvSpPr/>
          <p:nvPr/>
        </p:nvSpPr>
        <p:spPr>
          <a:xfrm>
            <a:off x="-20520" y="0"/>
            <a:ext cx="5095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开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WebGIS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解决方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B93-0E3E-4058-A020-975EB88636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"/>
          <p:cNvSpPr/>
          <p:nvPr/>
        </p:nvSpPr>
        <p:spPr>
          <a:xfrm>
            <a:off x="-20520" y="0"/>
            <a:ext cx="5095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开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WebGIS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解决方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190440" y="955800"/>
            <a:ext cx="266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新宋体"/>
              </a:rPr>
              <a:t>客户端呈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"/>
          <p:cNvSpPr/>
          <p:nvPr/>
        </p:nvSpPr>
        <p:spPr>
          <a:xfrm>
            <a:off x="190440" y="1787400"/>
            <a:ext cx="105472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现在的主流方式都是请求地图瓦片然后在客户端进行展示，因此理论上客户端只需要能够请求并获取相应的地图瓦片即可。但是仍然可以采用一些开源库的来简化、强化、优化前端开发。比较著名的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penlayer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penScal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，其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penLayers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是一个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Web GIS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客户端开发提供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JavaScrip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类库包，用于实现标准格式发布的地图数据访问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penScal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算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penLayer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ActionScrip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翻版，对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Fle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前端开发来说是个不错的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" descr=""/>
          <p:cNvPicPr/>
          <p:nvPr/>
        </p:nvPicPr>
        <p:blipFill>
          <a:blip r:embed="rId1"/>
          <a:srcRect l="0" t="0" r="25663" b="0"/>
          <a:stretch/>
        </p:blipFill>
        <p:spPr>
          <a:xfrm>
            <a:off x="1816200" y="4714920"/>
            <a:ext cx="650700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5B4-55DC-46E6-9395-E3F8D9F900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1"/>
          <p:cNvSpPr/>
          <p:nvPr/>
        </p:nvSpPr>
        <p:spPr>
          <a:xfrm>
            <a:off x="941400" y="2620800"/>
            <a:ext cx="726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可以采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uDi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Q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OpenJUM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等开源桌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"/>
          <p:cNvSpPr/>
          <p:nvPr/>
        </p:nvSpPr>
        <p:spPr>
          <a:xfrm>
            <a:off x="150840" y="1528920"/>
            <a:ext cx="2909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新宋体"/>
              </a:rPr>
              <a:t>地图数据生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941400" y="3589200"/>
            <a:ext cx="5981760" cy="229896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4"/>
          <p:cNvSpPr/>
          <p:nvPr/>
        </p:nvSpPr>
        <p:spPr>
          <a:xfrm>
            <a:off x="-20520" y="0"/>
            <a:ext cx="5095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开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WebGIS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解决方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AC6-FC47-4D1F-943C-710E42A2F6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1"/>
          <p:cNvSpPr/>
          <p:nvPr/>
        </p:nvSpPr>
        <p:spPr>
          <a:xfrm>
            <a:off x="-20520" y="0"/>
            <a:ext cx="5095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开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WebGIS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新宋体"/>
              </a:rPr>
              <a:t>解决方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"/>
          <p:cNvSpPr/>
          <p:nvPr/>
        </p:nvSpPr>
        <p:spPr>
          <a:xfrm>
            <a:off x="730080" y="2101680"/>
            <a:ext cx="89884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基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系列的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Mapserv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（服务器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+Q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（桌面软件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+Post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（数据库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+ Openlayers (JS)/ openscale (FLex)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浏览器客户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基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JavaE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系列的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Geoserv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（服务器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+uDi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（桌面软件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+PostGI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（数据库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+Openlayers (JS)/ openscale (FLex)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新宋体"/>
              </a:rPr>
              <a:t>浏览器客户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新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62D-0510-4890-AA3E-FE220D0F97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16:31:44Z</dcterms:created>
  <dc:creator>luye</dc:creator>
  <dc:description/>
  <dc:language>en-US</dc:language>
  <cp:lastModifiedBy>luye</cp:lastModifiedBy>
  <dcterms:modified xsi:type="dcterms:W3CDTF">2020-06-09T15:43:54Z</dcterms:modified>
  <cp:revision>67</cp:revision>
  <dc:subject/>
  <dc:title>PowerPoint 演示文稿</dc:title>
</cp:coreProperties>
</file>